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F3A-6934-431A-B252-52E777A6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3DB-74FB-4423-8840-78D73D68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23C-A6A1-4F33-93FF-E114A925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3D7-A602-49EE-A946-604B4A68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32E3-2E48-42BA-8181-65C9A2CF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E54-10C3-4FCE-AD08-71573FA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FE7-EC4C-41BB-9C7A-91C6E120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5E5-ABE5-4FEC-A2C3-C500AB32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77F3-AAFD-4AD8-AC3D-55ACCCF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253-B4FD-4977-A650-89EA9CC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7394-A186-4EEF-A0AB-66AF7E9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B57-BF9E-494E-87F1-8A3A0FE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A08-72E2-43FA-AE21-DCAF55A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42F-16AB-4936-8C08-69E8AAFD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963-C17B-4E91-8308-B811D09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5F59-F4BB-4F2A-A863-04EAF5D4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F63-5E59-454F-97D5-565B62E9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363-74E7-4F3A-88AE-F19AD7A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413-AEE4-4968-AF4B-42382F3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DDD-7970-433A-8B74-0A7F0B5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186-4632-489A-9684-0189F58E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287-A2C8-45A0-97D6-2E694710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954-86D4-4C98-BEFD-DB17CDC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4C0-2F8E-4AD6-B495-ECAED9D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CB2E-5B12-454C-9033-2C5B38FEF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8431-7F18-4AB5-852C-85C9168571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63640" y="1197000"/>
            <a:ext cx="698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use of mobile agents on mobile platfo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y Dimitri Verspe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5950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or : Theo D’Ho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A3B-74D4-4B94-BCDD-1EE1F6B52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Meeting Plann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machines (like Palm) cause small performance l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network slower (lower bandwidth, higher delays) than PC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machine needs to calculate longer than PC’s on same calc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lution 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ransfer all calculating agents from slow machine to a fast one using weak mo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59B-EBFE-4A38-B5D4-6B317978E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Meeting Plann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1366560" cy="161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40360" y="4221000"/>
            <a:ext cx="11509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UI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3429000"/>
            <a:ext cx="5472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cc99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3718080"/>
            <a:ext cx="1800" cy="502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3080" y="4726080"/>
            <a:ext cx="1224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eetingag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3080" y="5229360"/>
            <a:ext cx="1224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eetingag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636720" y="4941720"/>
            <a:ext cx="215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341360" cy="1584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97080" y="4438800"/>
            <a:ext cx="144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2720" y="3718080"/>
            <a:ext cx="180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3080" y="4221000"/>
            <a:ext cx="122400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P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36720" y="5446800"/>
            <a:ext cx="215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4941720"/>
            <a:ext cx="2160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7080" y="4438800"/>
            <a:ext cx="21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60720" y="3718080"/>
            <a:ext cx="1440" cy="502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7080" y="5446800"/>
            <a:ext cx="1440" cy="358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97080" y="5446800"/>
            <a:ext cx="21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284720" y="4726080"/>
            <a:ext cx="711000" cy="1079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52720" y="5446800"/>
            <a:ext cx="1800" cy="358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1917720"/>
            <a:ext cx="10810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UI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2638440"/>
            <a:ext cx="108108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P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349360"/>
            <a:ext cx="1800" cy="28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2205000"/>
            <a:ext cx="122400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eetingage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781360"/>
            <a:ext cx="1224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eetingage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2854440"/>
            <a:ext cx="21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421000"/>
            <a:ext cx="14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1000"/>
            <a:ext cx="215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2997360"/>
            <a:ext cx="215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1989000"/>
            <a:ext cx="1440" cy="43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59280" y="2997360"/>
            <a:ext cx="21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59280" y="2421000"/>
            <a:ext cx="21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76360" y="2421000"/>
            <a:ext cx="18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1989000"/>
            <a:ext cx="1800" cy="43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3070080"/>
            <a:ext cx="180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1700280"/>
            <a:ext cx="3456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a fast machine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gents remai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860640"/>
            <a:ext cx="34560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a slow machine (Pa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gents but the GUI agent are moved to another faster platform using weak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5DE-83F9-4F1D-97C7-E9F60CE26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Route plann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437000"/>
            <a:ext cx="144000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GUI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5229360"/>
            <a:ext cx="1440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Local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1523880" cy="180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348000" y="4437000"/>
            <a:ext cx="13669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Rout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843280" y="465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95640" y="486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43280" y="4724280"/>
            <a:ext cx="504720" cy="64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3860640"/>
            <a:ext cx="0" cy="2232360"/>
          </a:xfrm>
          <a:prstGeom prst="line">
            <a:avLst/>
          </a:prstGeom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5229360"/>
            <a:ext cx="1366920" cy="433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mot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Local runn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386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mote runn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2133720"/>
            <a:ext cx="1368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UI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2133720"/>
            <a:ext cx="1441440" cy="358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ap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06400" cy="12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258920" y="2781360"/>
            <a:ext cx="1368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Rout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2565360"/>
            <a:ext cx="144144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27280" y="285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43280" y="2349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2349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7280" y="29973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628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 : All agents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927000" cy="140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5280" y="3429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fter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3860640"/>
            <a:ext cx="237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oute agent on fast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p agent remains local, moves along or a map agent is available on the remo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2060640"/>
            <a:ext cx="36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ll agents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nitoring agent checks route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5C7-FC1E-4EFE-868D-51ACE3D30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Route plann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routeplanneragent using strong mobility has advanta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strong mobility on a fast network transfers the routeplanneragent fast and we have a big performance 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lso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strong mobility on a slow network causes large transfer delays and has a negative performance h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FCD-D80E-4527-8D81-86719BAAD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erformance gains by choosing different types of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slow network : Weak or forced weak prefer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fast network : Strong mobility prefer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nt is moved fast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frequent performance g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Adv. route plann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1A8-ACFA-4C7B-8017-6A1D97964F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utting mobility to use : Intellig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155736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ype of mobility is chosen intelligent by monitoring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speed, CPU &amp; memory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performance g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t performance g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lligence behind the choice of mobility i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7BD-5C09-4AA8-9AC6-46C8D1812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Mobile agents for mobile plat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42920" y="2781360"/>
            <a:ext cx="7489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nd of presen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450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FF9-E258-405E-A722-31B4128B9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between PC and Palm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&amp; disadvantages of mobil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cas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ing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route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7DD-D327-4F36-B51C-9DA57A4E6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330033"/>
                </a:solidFill>
                <a:latin typeface="Times New Roman"/>
              </a:rPr>
              <a:t>Thesis go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bout the use of mobile agents on mobi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bile agents 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ents who can move to different machines connected to the same net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bile platforms 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rtable computers who are connected to a networ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.: Palm, Visor, future GSM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improve performance of agent programs on mobile devices using the mobility property of ag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9DE-A5C3-470C-A688-750F886ED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260280"/>
            <a:ext cx="797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330033"/>
                </a:solidFill>
                <a:latin typeface="Times New Roman"/>
              </a:rPr>
              <a:t>Difference between </a:t>
            </a:r>
            <a:br>
              <a:rPr sz="3800"/>
            </a:br>
            <a:r>
              <a:rPr b="0" lang="nl-BE" sz="3800" spc="-1" strike="noStrike">
                <a:solidFill>
                  <a:srgbClr val="330033"/>
                </a:solidFill>
                <a:latin typeface="Times New Roman"/>
              </a:rPr>
              <a:t>mobile (palm)   &amp;   fixed (pc) platfo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557360"/>
            <a:ext cx="38098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CPU power (energy &amp; space constra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creen (160 x 160 on palm/vis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ct &amp;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ready to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with stylus (not suited for large textual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network speed due to hardwar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57360"/>
            <a:ext cx="3809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’s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asy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 (long) boo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with mouse &amp;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with speeds up to 1 Gbit/s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052640"/>
            <a:ext cx="0" cy="44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A86-8E69-45B6-9611-59C7BBE88B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or &amp; memory offloading using mobil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1180800" cy="13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1600200"/>
            <a:ext cx="3683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device only runs an UI agent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er CPU &amp;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er energy con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er programs (if network is fast enou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182960" cy="139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1182600" cy="1396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933720"/>
            <a:ext cx="367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3933720"/>
            <a:ext cx="504720" cy="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3933720"/>
            <a:ext cx="505080" cy="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93372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93372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93372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3573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060200" cy="111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3573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124000" y="1628640"/>
            <a:ext cx="1101960" cy="1737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900000" y="2565000"/>
            <a:ext cx="1224000" cy="142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62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4680" y="4005360"/>
            <a:ext cx="4546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devices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73408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ore powerful platforms on the same network run all agents that require a lot of memory &amp; process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700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bile device only runs the necessary agents like 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4869000"/>
            <a:ext cx="36003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on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ore suited for mobil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5B9-EA2A-4A05-BF11-0581933C2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advantages of mobile agents : Unreliable progr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peed may become performance bottleneck for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erformance may vary from moment to mo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pending on network load and the other platforms the program is running 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platform users demand fast responding reliable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solu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Q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721-D0AC-40C9-AAA2-68EAF12CF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mobil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mobilit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 is moved while calcul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 &amp; its stack is 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mobilit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 is moved while id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ly agent itself is 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ed weak mobilit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ents calculations are ab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 with minimal stack (proc. call) is 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culations automatically restart after m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A2F-9811-4FF9-98E3-D75744318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hesis c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cases handling different aspects of mobile agents on mobi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s run on simulation platform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ast computer &amp; network used together with simulation plat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imulating slow machine (palm dev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imulating slow &amp; fast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vides good platform for testing th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4C7-A33D-43BF-B875-478DB0052A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sis cases : Mail ser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494080"/>
            <a:ext cx="17989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UI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502080"/>
            <a:ext cx="17989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MailUser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494080"/>
            <a:ext cx="19432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MailServer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8720" y="2494080"/>
            <a:ext cx="93672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3141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2997360"/>
            <a:ext cx="93672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08720" y="3502080"/>
            <a:ext cx="93672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4560" y="2351160"/>
            <a:ext cx="936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4560" y="2855880"/>
            <a:ext cx="936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4560" y="3359160"/>
            <a:ext cx="936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4560" y="3863880"/>
            <a:ext cx="936360" cy="360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mail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2637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1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3645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80400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38560" y="249408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38560" y="40784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50560" y="24940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38560" y="27828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646440"/>
            <a:ext cx="19432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Mail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3141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050560" y="35020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50560" y="39355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050560" y="2998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1628640"/>
            <a:ext cx="0" cy="2881440"/>
          </a:xfrm>
          <a:prstGeom prst="line">
            <a:avLst/>
          </a:prstGeom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19280" y="2060640"/>
            <a:ext cx="0" cy="21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18920" y="2060640"/>
            <a:ext cx="611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38920" y="2060640"/>
            <a:ext cx="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55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2781360"/>
            <a:ext cx="431640" cy="107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581360"/>
            <a:ext cx="828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ach agent is represented as a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s the  use of weak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eak mobility requires reasonable f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13E-BF4E-4C70-A556-7321950E8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9:33:43Z</dcterms:created>
  <dc:creator>Dimitri Verspecht</dc:creator>
  <dc:description/>
  <dc:language>en-US</dc:language>
  <cp:lastModifiedBy>Dimitri Verspecht</cp:lastModifiedBy>
  <dcterms:modified xsi:type="dcterms:W3CDTF">2002-06-19T20:38:37Z</dcterms:modified>
  <cp:revision>57</cp:revision>
  <dc:subject/>
  <dc:title>Dia 1</dc:title>
</cp:coreProperties>
</file>